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6898-F9B0-4603-B8E9-807D699CDB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P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0044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0060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MEDEC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 C</a:t>
            </a:r>
            <a:r>
              <a:rPr b="1" lang="en-US" sz="18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ENTRO</a:t>
            </a:r>
            <a:r>
              <a:rPr b="1" lang="en-US" sz="22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 D</a:t>
            </a:r>
            <a:r>
              <a:rPr b="1" lang="en-US" sz="18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EMOSCOPICO</a:t>
            </a:r>
            <a:r>
              <a:rPr b="1" lang="en-US" sz="22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 M</a:t>
            </a:r>
            <a:r>
              <a:rPr b="1" lang="en-US" sz="18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ETROPOLIT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NITA’ </a:t>
            </a:r>
            <a:r>
              <a:rPr b="1" lang="en-US" sz="18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PECIALE </a:t>
            </a:r>
            <a:r>
              <a:rPr b="1" lang="en-US" sz="18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TUDI PER LA </a:t>
            </a:r>
            <a:r>
              <a:rPr b="1" lang="en-US" sz="18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ROGRAM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ROVINCIA DI </a:t>
            </a:r>
            <a:r>
              <a:rPr b="1" lang="en-US" sz="18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OLOG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209680"/>
            <a:ext cx="4952880" cy="1981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daggio su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ogni sociali nel territorio imole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levazione 2002 curata in collaborazione con 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rzio dei Servizi Sociali di Im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valigiabianc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62520" y="5410080"/>
            <a:ext cx="863640" cy="990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4080" y="640080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ogna City Mark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ctr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281916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-960480"/>
            <a:ext cx="5050080" cy="713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orzio dei Servizi Sociali di Im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eDeC - Centro Demoscopico Metropolita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216080"/>
            <a:ext cx="5867280" cy="425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orzio dei Servizi Sociali di Im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eDeC - Centro Demoscopico Metropolita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236600"/>
            <a:ext cx="5333760" cy="403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orzio dei Servizi Sociali di Im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eDeC - Centro Demoscopico Metropolita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1428840"/>
            <a:ext cx="6782040" cy="363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orzio dei Servizi Sociali di Im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eDeC - Centro Demoscopico Metropolita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105520" cy="39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orzio dei Servizi Sociali di Im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eDeC - Centro Demoscopico Metropolita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274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orzio dei Servizi Sociali di Im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eDeC - Centro Demoscopico Metropolita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1119240"/>
            <a:ext cx="5790960" cy="461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orzio dei Servizi Sociali di Im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eDeC - Centro Demoscopico Metropolita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576440"/>
            <a:ext cx="5715000" cy="365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orzio dei Servizi Sociali di Imo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eDeC - Centro Demoscopico Metropolita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5:19:04Z</dcterms:created>
  <dc:creator>Fabio Boccafogli</dc:creator>
  <dc:description/>
  <dc:language>en-US</dc:language>
  <cp:lastModifiedBy>Michele Zanoni</cp:lastModifiedBy>
  <dcterms:modified xsi:type="dcterms:W3CDTF">2003-12-15T17:26:51Z</dcterms:modified>
  <cp:revision>28</cp:revision>
  <dc:subject/>
  <dc:title>Presentazione di PowerPoint</dc:title>
</cp:coreProperties>
</file>