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447920" y="0"/>
            <a:ext cx="6400800" cy="176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2895480" y="34290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ervizio per il tutorato per il diritto-dovere presso i Centri per l’Impi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416640"/>
            <a:ext cx="944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Fonti: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onitoraggio Servizio Tutor OF a cura di IAL CISL E.R. – Studio Meta &amp; Associ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zione dell’utenza in carico al Servizio OF nell’anno scolastico 2006/2007</a:t>
            </a:r>
            <a:r>
              <a:rPr b="1" i="1" lang="en-US" sz="24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1220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228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mo quadrimestre febbraio 2008-luglio 2008</a:t>
            </a:r>
            <a:r>
              <a:rPr b="1" i="1" lang="en-US" sz="24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12760" y="685800"/>
            <a:ext cx="6918480" cy="2992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76520" y="3678120"/>
            <a:ext cx="586728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3:45:53Z</dcterms:created>
  <dc:creator>CASANOVA MANUELA</dc:creator>
  <dc:description/>
  <dc:language>en-US</dc:language>
  <cp:lastModifiedBy>CASANOVA MANUELA</cp:lastModifiedBy>
  <dcterms:modified xsi:type="dcterms:W3CDTF">2008-12-15T10:55:52Z</dcterms:modified>
  <cp:revision>37</cp:revision>
  <dc:subject/>
  <dc:title>NON UNO DI MENO: UNA SFIDA POSSIBILE Verso un nuovo patto territoriale per il contrasto alla dispersione scolastica e formativa</dc:title>
</cp:coreProperties>
</file>